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C1BF-5B73-47D1-8E4F-0B280330B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E9D1-415F-4FAC-8001-A84062D8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A308-F2EA-40A6-AC01-34E1A945D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E30A-1A0D-4D5B-9F44-077D54471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E589-4305-411B-9AAA-39F0182C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5D2E-E110-4EDF-B2C0-21559F7C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5C93-C3B7-487C-BAB4-6AC25E7A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464F-CE9E-4E26-A98F-99E2F4DE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2D65-A4F2-490D-90BC-6918D477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1DCF-85B9-41C6-B5EB-D494E6C6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1C6A-BED3-441D-8190-4FDB2B7D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EA47-D8D5-4008-9001-D664CB2F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8E82-FA20-41D3-AA10-B29ACF9D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93E4-BF1C-4365-B6F1-89E88686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FFA7-12EE-4420-85D0-C2DCFC89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93B5-E3E9-43CE-B26C-DA7D6624B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538C-3DA5-443C-A178-BD78A8870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9AC9-FE02-468C-A726-C876071D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0792-32CC-441A-A04B-26902534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2E1A-E9D1-4F51-BFD5-E2267E07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8CFE-4A3B-41F9-8C3A-F0FC5420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AC18-D55A-4DA1-93C3-56691519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B490-1B70-42F8-B448-A0284646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A70C-7D44-4E41-9DE8-FDB3279C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175D-DAEC-4A4F-B7FD-67A8DF37B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4FEC-1A11-40CF-85A5-A7C28C78F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he Scientific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Steps to Follow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cientific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3915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cientific Metho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series of steps to follow to answer a question or solve a probl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There are 5 main ste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4" descr="MCj02979350000[1]"/>
          <p:cNvPicPr/>
          <p:nvPr/>
        </p:nvPicPr>
        <p:blipFill>
          <a:blip r:embed="rId1"/>
          <a:stretch/>
        </p:blipFill>
        <p:spPr>
          <a:xfrm rot="798000">
            <a:off x="5867280" y="3581280"/>
            <a:ext cx="195444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 1: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sk a Ques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ientists ask questions based on observations from their surroundin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4" descr="MCj04344110000[1]"/>
          <p:cNvPicPr/>
          <p:nvPr/>
        </p:nvPicPr>
        <p:blipFill>
          <a:blip r:embed="rId1"/>
          <a:stretch/>
        </p:blipFill>
        <p:spPr>
          <a:xfrm>
            <a:off x="5410080" y="3809880"/>
            <a:ext cx="21672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16292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 2: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orm a Hypothe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ke an educated guess about what you think the answer is to your ques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4" descr="MCj00822790000[1]"/>
          <p:cNvPicPr/>
          <p:nvPr/>
        </p:nvPicPr>
        <p:blipFill>
          <a:blip r:embed="rId1"/>
          <a:stretch/>
        </p:blipFill>
        <p:spPr>
          <a:xfrm>
            <a:off x="4876920" y="3581280"/>
            <a:ext cx="2847960" cy="25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 3: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est your hypothe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 up an experiment to test your ques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4" descr="MCj02921160000[1]"/>
          <p:cNvPicPr/>
          <p:nvPr/>
        </p:nvPicPr>
        <p:blipFill>
          <a:blip r:embed="rId1"/>
          <a:stretch/>
        </p:blipFill>
        <p:spPr>
          <a:xfrm>
            <a:off x="4952880" y="3429000"/>
            <a:ext cx="310680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 4: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nalyze Your Resul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your results and decide what they tell you about your ques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4" descr="MCBD06630_0000[1]"/>
          <p:cNvPicPr/>
          <p:nvPr/>
        </p:nvPicPr>
        <p:blipFill>
          <a:blip r:embed="rId1"/>
          <a:stretch/>
        </p:blipFill>
        <p:spPr>
          <a:xfrm>
            <a:off x="4343400" y="3581280"/>
            <a:ext cx="32004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1629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 5: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orm a Conclu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de what the answer to your question is and ask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s my hypothesis right or wrong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I need to do the experiment again to find out more?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4" descr="MCj04298270000[1]"/>
          <p:cNvPicPr/>
          <p:nvPr/>
        </p:nvPicPr>
        <p:blipFill>
          <a:blip r:embed="rId1"/>
          <a:stretch/>
        </p:blipFill>
        <p:spPr>
          <a:xfrm>
            <a:off x="6068880" y="4191120"/>
            <a:ext cx="197352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01:32:54Z</dcterms:created>
  <dc:creator>K. Ubbing</dc:creator>
  <dc:description/>
  <dc:language>en-US</dc:language>
  <cp:lastModifiedBy>Denice Fogel</cp:lastModifiedBy>
  <dcterms:modified xsi:type="dcterms:W3CDTF">2012-08-27T02:56:01Z</dcterms:modified>
  <cp:revision>7</cp:revision>
  <dc:subject/>
  <dc:title>The Scientific Method</dc:title>
</cp:coreProperties>
</file>